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5D27-8A33-4C5E-B83A-8EF2EA3FD76F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5A79-F235-44B3-8EC8-C7056E7F93B2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923C-88B0-43D7-BD47-AE3072C884B2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ABDD-C714-49B4-B309-BFA1C94AAF6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26CB-7DF3-4F6C-9D3B-933EABB0DE2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BB8B-BE12-486B-A844-03F5D8EB339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33E5-98E1-46BD-8F90-A86EDD9C0B5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50BC-17B4-4349-A03E-5756449589B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A838-8C77-4630-8933-9E22D80C1D7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60E5-F993-412B-9C56-FD4179A1C564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1EF4-7DBC-4A66-B7A4-9DD9B5185F74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F2FF-5739-4A50-AD7B-54C0F6B3917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8AC6-3EA1-4FDD-BAFD-2C35150E037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BBD9-97C4-45D7-85FA-8B2B59801F8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335B-1D95-4E3D-806B-5C187145BC2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7404-0E2A-4F48-B2C0-B3EAEBFC3D2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E323-506A-48FE-91A9-9E3169D588C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1175-1CC4-4D17-B2BD-3756A53DFA9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CA20-D418-407F-B4F0-E302135EC06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C5DD-E151-43E3-AA3A-9ADBC26CF5D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D778-D6E4-46CA-ADE4-81341216AC8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CCC1-7931-43A9-960E-180FA725178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07D4-F6E7-49E3-8B4A-81705653A24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40B5-F6A3-4C09-AD86-F085CD47875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B21D-D2B9-41F3-970D-163CDC666A9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39E-CA9A-484F-988D-248050E7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EF5-4319-4F09-BD1F-3B349964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AE8-A5EA-4E21-83D2-9B30CF5D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5B2-0488-48DA-9D08-77EF37EE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A804-2891-4225-83DA-818DDD2D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715C-E707-4188-80F9-767034E9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35C8-5556-4066-95D8-2DBA1AFC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76F8-6153-4B66-B5E6-B6A73990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E3FF-64F3-4DBE-98AB-CACDDAEA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4D46-099C-4438-9143-669B419E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AD42-1925-4599-BAF2-EC15CF36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F4C-75DA-4989-AB93-B95511EC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C140-36DF-4FE3-907A-5DB5A94D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DFFF-6DCA-4AF8-9847-38B419C9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1A98-2763-4EEA-8835-C5AA6B3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76ED-9DF2-4053-A117-9F37C9AD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64A2-93A8-4BE0-A292-1651080C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26004-DA60-4EEB-A28B-99EDE039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AB33-5B48-44D1-A72A-CE29F5EA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7338-4006-4E44-8168-D02153AF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61EA-948C-4D90-8AEA-6E5DE2F6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95FB-8510-4608-91C3-3D2BF051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ED3-8135-4A9A-BB4F-4A66B773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65A3B-6348-4587-AC70-09618BF6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F44C3-43C9-483D-B6B8-D5433EA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17FE-B402-4844-B2B0-03380F2B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0647-AD9C-4C9E-9138-8107040E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41DF-D198-4598-80DB-133B1654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5ECD-646F-425B-A796-E8EA318D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6A4D-955D-4099-9349-E61930BA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EFABC-7483-4B93-A0A6-677F6FED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5F6FB-74FF-4271-905D-63C760E1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899B-C3E3-4ABD-ACD7-50E51C7C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839-60A8-469F-BC9E-F0067C7A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3278-6FFE-4C10-868F-D3B513CF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BC91-BFA9-4C68-A6D8-368006C0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BB53-D680-4804-B116-BD579F1F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9CB3-00F7-4EB5-B59E-457A7D79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159D0-4218-47D0-B3CA-C9711241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B57AE-F7F8-4DDF-8C1C-1DBB29B4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9820-BF1C-4A30-B9D8-D96A7281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A921-FFAC-430C-95EA-DCD51F5A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066FA-CF6B-4F7F-935E-5233BD61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0241C-F823-4470-B05A-6C5E986B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963-07BC-477E-BE18-F60EFEB7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5F28B-9153-439F-A4DF-D263E61F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A5B77-7055-4D39-8A4A-2E77C4D3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99DCC-F957-4BAC-8E12-5BEC7333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A23C2-D78C-475D-B0A9-546CF454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91844-1011-41F1-A50E-D2BCDA0B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4FA0C-C4FA-4EA0-9113-0DE245A6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E0D34-5F79-4753-AAB6-6854BAB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5718B-C272-4715-A67A-25AB426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1250D-D74B-4A08-8C11-FEAB4AAD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02B4B-8AA2-4F7D-93AA-FC93EAFD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340-0ABB-4428-8FFB-FAA69F08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EFA18-3078-4CB4-8DB7-0F06F8EF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F44-580D-4945-AF35-A592BB02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819-76CC-4128-A5C6-CF1F369F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BA1-529A-4B5B-9E72-16C39EE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BC16-BF5A-418E-BC4E-DF59E7E4804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E766-521B-4C3D-B1BB-D65BB02D51B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030C-3E0C-40AA-8139-FC96989E69A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507F-88E2-4A8B-B25C-D276A3AE30F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E2DA-5664-41DD-9B99-9BAD0E7609A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894440" cy="944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84360" y="242100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9b639"/>
                </a:solidFill>
                <a:latin typeface="Bradley Hand ITC"/>
                <a:ea typeface="Calibri"/>
              </a:rPr>
              <a:t>‘</a:t>
            </a:r>
            <a:r>
              <a:rPr b="1" i="1" lang="en-US" sz="6600" spc="-1" strike="noStrike">
                <a:solidFill>
                  <a:srgbClr val="f9b639"/>
                </a:solidFill>
                <a:latin typeface="Bradley Hand ITC"/>
                <a:ea typeface="Calibri"/>
              </a:rPr>
              <a:t>Mum, Girls can do anything.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9b639"/>
                </a:solidFill>
                <a:latin typeface="Bradley Hand ITC"/>
                <a:ea typeface="Calibri"/>
              </a:rPr>
              <a:t>What can I do?’ - </a:t>
            </a:r>
            <a:r>
              <a:rPr b="1" i="1" lang="en-US" sz="6600" spc="-1" strike="noStrike">
                <a:solidFill>
                  <a:srgbClr val="000000"/>
                </a:solidFill>
                <a:latin typeface="Clarendon-Bold"/>
                <a:ea typeface="Calibri"/>
              </a:rPr>
              <a:t>Boy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Crouch: 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Poise, get ready, to embrace active mission-based learning within structure, order and securit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Trebuchet MS"/>
              </a:rPr>
              <a:t>Purposeful mission-based intention: goes somewhere for a reason. Has goal/try line and results/sco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Trebuchet MS"/>
              </a:rPr>
              <a:t>Order and security: rules, consequences, boss, fairn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Trebuchet MS"/>
              </a:rPr>
              <a:t>Structure: compartmentalised, linear, clear framework, may be graduated, clear rewards, predictabl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900720" y="113040"/>
            <a:ext cx="734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Calibri"/>
              </a:rPr>
              <a:t>Crouch: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alibri"/>
              </a:rPr>
              <a:t>to embrace active mission-based learning </a:t>
            </a:r>
            <a:r>
              <a:rPr b="0" lang="en-US" sz="900" spc="-1" strike="noStrike">
                <a:solidFill>
                  <a:srgbClr val="ff0000"/>
                </a:solidFill>
                <a:latin typeface="Calibri"/>
                <a:ea typeface="Calibri"/>
              </a:rPr>
              <a:t>Aspiration?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alibri"/>
              </a:rPr>
              <a:t> Order and security 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Calibri"/>
              </a:rPr>
              <a:t>orient on the goal and mission, embrace active mission-based lear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65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ouch:  The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 body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s the learning tool, kinesthetic learning, ac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Doing: </a:t>
            </a: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Active and kinaesthetic </a:t>
            </a: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is the way to learn, action methods, manipulating an environment, creating 3D (solid) and 2D (visual) fields to work i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Success/solution is by</a:t>
            </a:r>
            <a:r>
              <a:rPr b="0" i="1" lang="en-AU" sz="2400" spc="-1" strike="noStrike">
                <a:solidFill>
                  <a:srgbClr val="000000"/>
                </a:solidFill>
                <a:latin typeface="Trebuchet MS"/>
              </a:rPr>
              <a:t> doing</a:t>
            </a: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 someth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Touch boys and allow and encourage tou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Kinaesthetic relating to boys: Holding arms, hands/pat on bac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Rough and tumble.  Boys experience power physically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Play through touch: wrestling, rugby, holding, contact sport, martial a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Reassurance of strength, warmth, inten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6840" y="1071360"/>
            <a:ext cx="818676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Boys are much less auditory. Talk less, give short instructions, one step at a time. Women reduce your vocab to one thir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Outdoor activity, large motor mov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Produce things, concrete results of labou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Less focus on the emotional and verb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TV and film programming for males express this difference well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Video games know about this world of kinaesthetic action and achiev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When under threat males will go ‘into a cave’ and sort out a doing solution before talking about i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Doing links to the linear thin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79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use to consider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conten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and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 process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at activates a boy’s intere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Factual, comparative, measur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Cause-effec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Goal oriented: treasure discovery, search, hunt, fix, find out, resolve a problem, achieve, find the unknow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Good for problem solving, fixing things, inventing th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ction, movement from one point to another, speed, balls, wheels, directional move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Danger, suspense, terror, uncertainty, adventur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Associated with robustness and aggressio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28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68360" y="1267920"/>
            <a:ext cx="7238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Gives drive, focus, purpose and intent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Sensitive to hierarchy, power and order.</a:t>
            </a:r>
            <a:r>
              <a:rPr b="1" lang="en-A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Consider Linear Think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Strong focussing on one thing, purposeful and may eliminate the peripher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Finds out how things wor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Begins and follows to a conclusion or solu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Sometimes called scientific, rational, logical or cause/effe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ctive and moves directionally to an e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Tends to be black and whit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Seeks boundaries and compart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8480520" cy="1139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nvolve men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inspirational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leadership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that generates,  aspirational  inten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Boys are hungry for engagement with m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ttract and keep and value male teach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ngage fathers and involve them for their own wor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ngage, welcome and involve parents not living with the chil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Share fathers and use mentoring schem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sk future based questions that lead the child to connect the present with meaningful activity no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stablish intention in vocation and /or hold vocation for the bo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Provide heroes: super and loc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Create affirmation and foster male self este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Respect masculinity and different ways of doing th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Foster leadership and give responsibility that involves both achievement and nurtur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sk who would you be like?  Who would you b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219240" y="755640"/>
            <a:ext cx="8486640" cy="725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et across the line to achieve  results, completion, endings, achievement of aspirat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Is there a satisfactory completion and ending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Notice linear learning and solutions, outcomes, results, completions, endings resolutions. 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Did you score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2760" y="74304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rebuchet MS"/>
              </a:rPr>
              <a:t>Understand 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Linear Think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Promote problem solving, fixing things, inventing things for a clear go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Give all the time needed for that go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llow projects to be kept so that they can be finish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Focussing on one thing at a 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Promote purposeful comple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Reward and acknowledge results not just proces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Finding out how things work is a goal of explor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Begin and follows to a conclusion or solu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What was the score/measure, number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Value the scientific, rational, logical or cause/effe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llow it to be active and move directionally to an e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llow for black and white responses and answ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Notice boundaries and compart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i="1" lang="en-AU" sz="3600" spc="-1" strike="noStrike">
                <a:solidFill>
                  <a:srgbClr val="000000"/>
                </a:solidFill>
                <a:latin typeface="Trebuchet MS"/>
              </a:rPr>
              <a:t>In a world where differences have not been acknowledged, the use of feminised processes and content has been assumed as normal and generic, when in fact it has discriminated against boys’ achievement</a:t>
            </a:r>
            <a:r>
              <a:rPr b="0" i="1" lang="en-A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676440" y="249120"/>
            <a:ext cx="7785000" cy="8114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7815240" cy="521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Trebuchet MS"/>
              </a:rPr>
              <a:t>Check your responses to the scrum activity? Did you experience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Enthusia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Cautio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Shyness at physical contact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Fear of being hurt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Fear of touch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Scorn 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Criticism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Gle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Relief at some physical movement 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Resentment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Frustratio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Rejectio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rebuchet MS"/>
              </a:rPr>
              <a:t>Disobedience for any of the reasons abov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df9307"/>
                </a:solidFill>
                <a:latin typeface="Trebuchet MS"/>
              </a:rPr>
              <a:t>This </a:t>
            </a:r>
            <a:r>
              <a:rPr b="0" i="1" lang="en-NZ" sz="1900" spc="-1" strike="noStrike">
                <a:solidFill>
                  <a:srgbClr val="ff0000"/>
                </a:solidFill>
                <a:latin typeface="Trebuchet MS"/>
              </a:rPr>
              <a:t>may </a:t>
            </a:r>
            <a:r>
              <a:rPr b="0" i="1" lang="en-NZ" sz="1900" spc="-1" strike="noStrike">
                <a:solidFill>
                  <a:srgbClr val="df9307"/>
                </a:solidFill>
                <a:latin typeface="Trebuchet MS"/>
              </a:rPr>
              <a:t>be your response to boys in schools and what they ask, demand and brin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9240" y="384120"/>
            <a:ext cx="7492680" cy="7254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Boys can do anything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Validation for being boy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Generate action, mission and challeng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oster creation, invention, risk-tak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oster Care and nurtur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allenge the ‘feminine-sides’ theory. Men and women do the same things but in different way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Protection, Fierceness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competition self and others, when it’s over it’s ov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551720" cy="1176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 Male undercla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 ‘Cool to fool’ cul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Drop ou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Ga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Achievement by alternative mea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Poor health and wellbe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413000"/>
            <a:ext cx="7238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qua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Living fairn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Greater appreciation of divers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Increased aspir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Reduced dysfunction in schoo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Balanced parenting and responsibi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More love for kid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Better health for ma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Increased social wellbe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Increased happiness for those giving and ca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rouch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o embrace active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mission-based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learning within order and secur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Touch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 body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 the learning tool, kinesthetic learning, ac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ause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ider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conten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that activates boy’s inte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Engage: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Involve men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inspirational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leadership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that generates, models aspirational  intention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Score: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etting across the line to achieve  results, completion, endings,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achievement of aspira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Presentation by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000000"/>
                </a:solidFill>
                <a:latin typeface="Trebuchet MS"/>
              </a:rPr>
              <a:t>Warwick Pudney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000000"/>
                </a:solidFill>
                <a:latin typeface="Trebuchet MS"/>
              </a:rPr>
              <a:t>AUT Universit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000000"/>
                </a:solidFill>
                <a:latin typeface="Trebuchet MS"/>
              </a:rPr>
              <a:t>9219999 ext 7729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000000"/>
                </a:solidFill>
                <a:latin typeface="Trebuchet MS"/>
              </a:rPr>
              <a:t>warwick.pudney@aut.ac.nz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44440" y="512640"/>
            <a:ext cx="8386920" cy="1627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35000" y="2060280"/>
            <a:ext cx="8896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In 2009 there were 60% more female graduates  from tertiary education than male. Stats. N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Prof. David Fergusson: Dunedin study. Boys are behind in all subjects, at all levels. 199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Report 2007 provided no recommendations only named the issu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This is an international phenomen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Other countries are doing bett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rebuchet MS"/>
              </a:rPr>
              <a:t>Effort is coming from teachers not the syst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80960" y="328680"/>
            <a:ext cx="8261280" cy="14810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10920" y="2491920"/>
            <a:ext cx="784836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90-95% of RTLB referral are boy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80-95% police youth engageme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Illiteracy 80-90% ma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Prison population  80-85% male. Literacy and numeracy are key rehabilitation facto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Unemployment figures show more men becoming unemployed/unemployable than wome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Trebuchet MS"/>
              </a:rPr>
              <a:t>Graduates of tertiary ed. 60% more women each yea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Trebuchet MS"/>
              </a:rPr>
              <a:t>Do we have a feminised system 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Primary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1971     37.8 % male teachers in prima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006     14% report (2006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arly childhoo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CE 1992    2.1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rebuchet MS"/>
              </a:rPr>
              <a:t>ECE Now under 1% and rising (Farquhar 1997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rway (10%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We celebrate that girls can do anyth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We shudder at the effect of boys not being able to achieve to their fullness and the way boys and men handle those effects.  As with Maori education this becomes a human rights issu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Efforts to address inequality for boys have been slow and defensive.  Practitioners have tended to see the problem as </a:t>
            </a:r>
            <a:r>
              <a:rPr b="0" i="1" lang="en-AU" sz="2600" spc="-1" strike="noStrike">
                <a:solidFill>
                  <a:srgbClr val="000000"/>
                </a:solidFill>
                <a:latin typeface="Trebuchet MS"/>
              </a:rPr>
              <a:t>boy-owned</a:t>
            </a: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 rather than a systemic problem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The analysis has not been client-centred.  It suggests that the system is OK and concludes boys need to improve within the syste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There is little evidence of positive discrimination which might rectify this situation.  A learner-centred approach that examines differences, needs and solutions is requir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Teachers are making the difference not poli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Boys have differences from girls that are both social constructions and genetic.(nature and nurtur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How much of either is not the issue.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When they arrive in our care they are differe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If we are teaching and caring in a child-centred manner then we will respect those differen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Rugby provides us with  an appropriate metaphorical structure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rebuchet MS"/>
              </a:rPr>
              <a:t>Crouch, Touch, Pause Engage and Sco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rouch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o embrace active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mission-based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learning within order and secur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Touch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 body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 the learning tool, kinesthetic learning, ac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ause: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ider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conten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that activates boy’s inte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Engage: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Involve men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inspirational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leadership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that generates, models aspirational  intention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Score: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etting across the line to achieve  results, completion, endings, 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achievement of aspira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3:19:50Z</dcterms:created>
  <dc:creator>AUT User</dc:creator>
  <dc:description/>
  <dc:language>en-US</dc:language>
  <cp:lastModifiedBy>AUT User</cp:lastModifiedBy>
  <dcterms:modified xsi:type="dcterms:W3CDTF">2011-09-13T02:54:15Z</dcterms:modified>
  <cp:revision>54</cp:revision>
  <dc:subject/>
  <dc:title>Auckland Primary Principals’ Association Conference</dc:title>
</cp:coreProperties>
</file>